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B12-202E-46B7-B2F8-0E4A9A2B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5DD-1632-44B2-B87E-52FCA2D5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B39-2593-414F-9D1E-90B7AE57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D26-88FF-4425-A879-C2A170FC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A0B-A693-4761-9B43-AD3C9399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541-FB0C-485C-9302-D02C0183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D23-1B33-4DB6-AB57-C3CAAAF2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BCB8-11E1-4FAF-9AE8-6EEBB5A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F513-E383-4804-A1E4-AF1A72F1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5AF-6223-463D-8953-82AE1E4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A7F0-F48F-449A-AA48-0C256ABC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5505-DC82-41E0-B907-2438750C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EDD1-8149-450B-BEF3-F1AD4008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A62F-3D06-46D1-BDE7-387BBE77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F244-84BE-4C32-97F1-20969B5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9BE2-2F22-4A2B-8E0B-6EE912F2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1371-FB12-4E19-9AFF-AC92C596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2BB3-5771-482B-BF3F-9D24F8F7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AAEE-93DB-4235-96DE-2C2C3C6F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677D-E4BB-4105-B894-4D1F7BAC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404-54AA-481A-B595-8A4D0B56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18F1-E6E9-4212-ACB2-802ABFA0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1FD7-BCF8-412A-B0E5-AAA7E9D8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7A24-31F8-4C1D-914A-B3B5B8D7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0AEA-DFFF-49E8-95ED-2E935807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9758B-DD82-4FC8-8336-ED14706D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9127-C8B3-48B8-8AD1-D08F48E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ED95-4CF6-4F19-A6C3-FAF780F9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31B5-F87A-4786-AB10-2E84D622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3D4F3-5E4E-402A-9930-092E81D3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EFA8-8B70-477F-9D65-F0491B79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D63-3BBD-4AB8-B2A1-7742A94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DBAE-0CCD-4D65-8FBB-8C2941E8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5FA19-CE3D-4FCE-9D66-1637217F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22D3-C69C-4B7E-8878-BF67A72A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28AB-62F9-4497-BFDE-D852146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9F06-02A4-476A-8F15-4C4317D8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5B4A-CF18-4007-80FB-36DB87CC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2E4E8-7B24-4465-8FC5-8A253260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D4D00-5C50-4DC7-ABCE-76887333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3E80-FD08-4BDD-814F-28EE7484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9942-7905-493C-BBFF-DAD078E9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5B4-5A06-4665-8F1B-27DE57D8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C17A-2F9D-4A1C-B223-88F4972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BEB04-86F0-4A10-89D8-8E38B6C9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DDC1-E01A-48E7-BF6D-5A4BD7B2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B6C-AEE2-47E5-A048-6C66871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E57-96CC-4464-887F-FFD5529F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86D2E53-58FA-4A5A-94A4-D01BC19A925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8243120-3406-466E-8DD0-E64E1223911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B82E60C-006B-4412-9467-0E53E3DC958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83EB7FE-2A86-45A2-8FAD-BA5B3DD45E90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1680" indent="-3016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i="1" lang="pl-PL" sz="3200" spc="-1" strike="noStrike">
                <a:solidFill>
                  <a:srgbClr val="374c81"/>
                </a:solidFill>
                <a:latin typeface="Century Gothic"/>
              </a:rPr>
              <a:t>Wyjaśnij skrót SAMPLE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 – (Symptoms) – Objawy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A – (Allergies) – Alergi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M – (Medicines) – Medykament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 – (Past medical history) – Przebyte chorob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L – (Lunch) – Ostatni posiłe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E – (Events preceding) – Okoliczności zdarzenia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